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naca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"/>
          <p:cNvGrpSpPr/>
          <p:nvPr/>
        </p:nvGrpSpPr>
        <p:grpSpPr>
          <a:xfrm>
            <a:off x="250920" y="1494000"/>
            <a:ext cx="8506800" cy="4995360"/>
            <a:chOff x="250920" y="1494000"/>
            <a:chExt cx="8506800" cy="4995360"/>
          </a:xfrm>
        </p:grpSpPr>
        <p:grpSp>
          <p:nvGrpSpPr>
            <p:cNvPr id="37" name=""/>
            <p:cNvGrpSpPr/>
            <p:nvPr/>
          </p:nvGrpSpPr>
          <p:grpSpPr>
            <a:xfrm>
              <a:off x="250920" y="1494000"/>
              <a:ext cx="8506800" cy="4995360"/>
              <a:chOff x="250920" y="1494000"/>
              <a:chExt cx="8506800" cy="4995360"/>
            </a:xfrm>
          </p:grpSpPr>
          <p:sp>
            <p:nvSpPr>
              <p:cNvPr id="38" name=""/>
              <p:cNvSpPr/>
              <p:nvPr/>
            </p:nvSpPr>
            <p:spPr>
              <a:xfrm>
                <a:off x="250920" y="1494000"/>
                <a:ext cx="8506800" cy="4995360"/>
              </a:xfrm>
              <a:prstGeom prst="rect">
                <a:avLst/>
              </a:prstGeom>
              <a:gradFill rotWithShape="0">
                <a:gsLst>
                  <a:gs pos="0">
                    <a:srgbClr val="fee0a6">
                      <a:alpha val="51372"/>
                    </a:srgbClr>
                  </a:gs>
                  <a:gs pos="100000">
                    <a:srgbClr val="ffcc66">
                      <a:alpha val="51372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hinacat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250920" y="1494000"/>
                <a:ext cx="8506800" cy="4995360"/>
              </a:xfrm>
              <a:prstGeom prst="rect">
                <a:avLst/>
              </a:prstGeom>
              <a:noFill/>
              <a:ln w="76320">
                <a:solidFill>
                  <a:srgbClr val="ffcc66"/>
                </a:solidFill>
                <a:miter/>
              </a:ln>
              <a:effectLst>
                <a:outerShdw dist="17819" dir="2700000" blurRad="0" rotWithShape="0">
                  <a:srgbClr val="9879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hinacat"/>
                </a:endParaRPr>
              </a:p>
            </p:txBody>
          </p:sp>
        </p:grpSp>
        <p:pic>
          <p:nvPicPr>
            <p:cNvPr id="40" name="" descr=""/>
            <p:cNvPicPr/>
            <p:nvPr/>
          </p:nvPicPr>
          <p:blipFill>
            <a:blip r:embed="rId2"/>
            <a:stretch/>
          </p:blipFill>
          <p:spPr>
            <a:xfrm>
              <a:off x="297000" y="1538280"/>
              <a:ext cx="3617640" cy="490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" name=""/>
          <p:cNvSpPr/>
          <p:nvPr/>
        </p:nvSpPr>
        <p:spPr>
          <a:xfrm>
            <a:off x="4032360" y="1673280"/>
            <a:ext cx="441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hinacat"/>
              </a:rPr>
              <a:t>Sapete da dove viene la MESSA  che celebriamo ogni domenica?</a:t>
            </a:r>
            <a:endParaRPr b="0" lang="en-US" sz="28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42" name=""/>
          <p:cNvSpPr/>
          <p:nvPr/>
        </p:nvSpPr>
        <p:spPr>
          <a:xfrm>
            <a:off x="4122720" y="5364000"/>
            <a:ext cx="441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hinacat"/>
              </a:rPr>
              <a:t>Lo ricordiamo con </a:t>
            </a:r>
            <a:r>
              <a:rPr b="0" lang="ca-ES" sz="2600" spc="-1" strike="noStrike">
                <a:solidFill>
                  <a:srgbClr val="000000"/>
                </a:solidFill>
                <a:latin typeface="Chinacat"/>
              </a:rPr>
              <a:t>alcune</a:t>
            </a:r>
            <a:r>
              <a:rPr b="0" lang="ca-ES" sz="2800" spc="-1" strike="noStrike">
                <a:solidFill>
                  <a:srgbClr val="000000"/>
                </a:solidFill>
                <a:latin typeface="Chinacat"/>
              </a:rPr>
              <a:t> immagini...</a:t>
            </a:r>
            <a:endParaRPr b="0" lang="en-US" sz="28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0920" y="279360"/>
            <a:ext cx="850716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ANDIAMO ALLA CENA DI GES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76280" y="233280"/>
            <a:ext cx="8281800" cy="752040"/>
          </a:xfrm>
          <a:prstGeom prst="rect">
            <a:avLst/>
          </a:prstGeom>
          <a:gradFill rotWithShape="0">
            <a:gsLst>
              <a:gs pos="0">
                <a:srgbClr val="fee5b5">
                  <a:alpha val="57254"/>
                </a:srgbClr>
              </a:gs>
              <a:gs pos="50000">
                <a:srgbClr val="ffcc66">
                  <a:alpha val="56078"/>
                </a:srgbClr>
              </a:gs>
              <a:gs pos="100000">
                <a:srgbClr val="fee5b5">
                  <a:alpha val="57254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202"/>
                </a:solidFill>
                <a:latin typeface="Chinacat"/>
              </a:rPr>
              <a:t>Poco prima di morire, Gesú si riunì per Cenare con i suoi amici, gli apostoli per celebrare la Pasqua.</a:t>
            </a:r>
            <a:endParaRPr b="0" lang="en-US" sz="24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45" name=""/>
          <p:cNvSpPr/>
          <p:nvPr/>
        </p:nvSpPr>
        <p:spPr>
          <a:xfrm>
            <a:off x="476280" y="1179360"/>
            <a:ext cx="8272440" cy="1081080"/>
          </a:xfrm>
          <a:prstGeom prst="rect">
            <a:avLst/>
          </a:prstGeom>
          <a:gradFill rotWithShape="0">
            <a:gsLst>
              <a:gs pos="0">
                <a:srgbClr val="fee5b5">
                  <a:alpha val="57254"/>
                </a:srgbClr>
              </a:gs>
              <a:gs pos="50000">
                <a:srgbClr val="ffcc66">
                  <a:alpha val="56078"/>
                </a:srgbClr>
              </a:gs>
              <a:gs pos="100000">
                <a:srgbClr val="fee5b5">
                  <a:alpha val="57254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202"/>
                </a:solidFill>
                <a:latin typeface="Chinacat"/>
              </a:rPr>
              <a:t>Dopo  aver cenato  distribuì  </a:t>
            </a:r>
            <a:r>
              <a:rPr b="1" lang="ca-ES" sz="2400" spc="-1" strike="noStrike">
                <a:solidFill>
                  <a:srgbClr val="cc3300"/>
                </a:solidFill>
                <a:latin typeface="Chinacat"/>
              </a:rPr>
              <a:t>pane</a:t>
            </a:r>
            <a:r>
              <a:rPr b="1" lang="ca-ES" sz="2400" spc="-1" strike="noStrike">
                <a:solidFill>
                  <a:srgbClr val="000202"/>
                </a:solidFill>
                <a:latin typeface="Chinacat"/>
              </a:rPr>
              <a:t> e  </a:t>
            </a:r>
            <a:r>
              <a:rPr b="1" lang="ca-ES" sz="2400" spc="-1" strike="noStrike">
                <a:solidFill>
                  <a:srgbClr val="cc3300"/>
                </a:solidFill>
                <a:latin typeface="Chinacat"/>
              </a:rPr>
              <a:t>vino </a:t>
            </a:r>
            <a:r>
              <a:rPr b="1" lang="ca-ES" sz="2400" spc="-1" strike="noStrike">
                <a:solidFill>
                  <a:srgbClr val="000202"/>
                </a:solidFill>
                <a:latin typeface="Chinacat"/>
              </a:rPr>
              <a:t>dicendo loro: “</a:t>
            </a:r>
            <a:r>
              <a:rPr b="1" lang="ca-ES" sz="2400" spc="-1" strike="noStrike">
                <a:solidFill>
                  <a:srgbClr val="cc3300"/>
                </a:solidFill>
                <a:latin typeface="Chinacat"/>
              </a:rPr>
              <a:t>PRENDETE, QUESTO È IL MIO CORPO</a:t>
            </a:r>
            <a:r>
              <a:rPr b="1" lang="ca-ES" sz="2400" spc="-1" strike="noStrike">
                <a:solidFill>
                  <a:srgbClr val="000202"/>
                </a:solidFill>
                <a:latin typeface="Chinacat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Chinaca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202"/>
                </a:solidFill>
                <a:latin typeface="Chinacat"/>
              </a:rPr>
              <a:t>Dopo ha detto: “</a:t>
            </a:r>
            <a:r>
              <a:rPr b="1" lang="ca-ES" sz="2400" spc="-1" strike="noStrike">
                <a:solidFill>
                  <a:srgbClr val="cc3300"/>
                </a:solidFill>
                <a:latin typeface="Chinacat"/>
              </a:rPr>
              <a:t>QUESTO È IL MIO SANGUE</a:t>
            </a:r>
            <a:r>
              <a:rPr b="1" lang="ca-ES" sz="2400" spc="-1" strike="noStrike">
                <a:solidFill>
                  <a:srgbClr val="000202"/>
                </a:solidFill>
                <a:latin typeface="Chinacat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46" name=""/>
          <p:cNvSpPr/>
          <p:nvPr/>
        </p:nvSpPr>
        <p:spPr>
          <a:xfrm>
            <a:off x="206280" y="5815080"/>
            <a:ext cx="8596440" cy="1081080"/>
          </a:xfrm>
          <a:prstGeom prst="rect">
            <a:avLst/>
          </a:prstGeom>
          <a:gradFill rotWithShape="0">
            <a:gsLst>
              <a:gs pos="0">
                <a:srgbClr val="fee5b5">
                  <a:alpha val="57254"/>
                </a:srgbClr>
              </a:gs>
              <a:gs pos="50000">
                <a:srgbClr val="ffcc66">
                  <a:alpha val="56078"/>
                </a:srgbClr>
              </a:gs>
              <a:gs pos="100000">
                <a:srgbClr val="fee5b5">
                  <a:alpha val="57254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202"/>
                </a:solidFill>
                <a:latin typeface="Chinacat"/>
              </a:rPr>
              <a:t>Disse anche: </a:t>
            </a:r>
            <a:r>
              <a:rPr b="1" lang="ca-ES" sz="2400" spc="-1" strike="noStrike">
                <a:solidFill>
                  <a:srgbClr val="ff0000"/>
                </a:solidFill>
                <a:latin typeface="Chinacat"/>
              </a:rPr>
              <a:t>”Quando vi riunirete, dopo la  mia morte, farete una cena come questa,  ricordando questo giorno”</a:t>
            </a:r>
            <a:r>
              <a:rPr b="1" lang="ca-ES" sz="2400" spc="-1" strike="noStrike">
                <a:solidFill>
                  <a:srgbClr val="000000"/>
                </a:solidFill>
                <a:latin typeface="Chinacat"/>
              </a:rPr>
              <a:t>.</a:t>
            </a:r>
            <a:r>
              <a:rPr b="1" lang="ca-ES" sz="2400" spc="-1" strike="noStrike">
                <a:solidFill>
                  <a:srgbClr val="000202"/>
                </a:solidFill>
                <a:latin typeface="Chinaca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hinaca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5920" y="2438280"/>
            <a:ext cx="82803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4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364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41280" y="368280"/>
            <a:ext cx="4500720" cy="2123280"/>
          </a:xfrm>
          <a:prstGeom prst="rect">
            <a:avLst/>
          </a:prstGeom>
          <a:gradFill rotWithShape="0">
            <a:gsLst>
              <a:gs pos="0">
                <a:srgbClr val="ffcc66">
                  <a:alpha val="50196"/>
                </a:srgbClr>
              </a:gs>
              <a:gs pos="50000">
                <a:srgbClr val="fee4b0">
                  <a:alpha val="50196"/>
                </a:srgbClr>
              </a:gs>
              <a:gs pos="100000">
                <a:srgbClr val="ffcc66">
                  <a:alpha val="5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hinacat"/>
              </a:rPr>
              <a:t>Frequentemente si riunivano nelle loro case </a:t>
            </a:r>
            <a:endParaRPr b="0" lang="en-US" sz="2400" spc="-1" strike="noStrike">
              <a:solidFill>
                <a:srgbClr val="000000"/>
              </a:solidFill>
              <a:latin typeface="Chinaca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hinacat"/>
              </a:rPr>
              <a:t>per celebrare </a:t>
            </a:r>
            <a:endParaRPr b="0" lang="en-US" sz="2400" spc="-1" strike="noStrike">
              <a:solidFill>
                <a:srgbClr val="000000"/>
              </a:solidFill>
              <a:latin typeface="Chinaca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hinacat"/>
              </a:rPr>
              <a:t>la Cena del Signore.</a:t>
            </a: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14720"/>
            <a:ext cx="5562720" cy="3532680"/>
          </a:xfrm>
          <a:prstGeom prst="rect">
            <a:avLst/>
          </a:prstGeom>
          <a:gradFill rotWithShape="0">
            <a:gsLst>
              <a:gs pos="0">
                <a:srgbClr val="ffcc66">
                  <a:alpha val="50196"/>
                </a:srgbClr>
              </a:gs>
              <a:gs pos="50000">
                <a:srgbClr val="fee4b0">
                  <a:alpha val="50196"/>
                </a:srgbClr>
              </a:gs>
              <a:gs pos="100000">
                <a:srgbClr val="ffcc66">
                  <a:alpha val="5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hinacat"/>
              </a:rPr>
              <a:t>Al termine della cena si spartivano il pane e il vino che ciascuno aveva portato. </a:t>
            </a:r>
            <a:endParaRPr b="0" lang="en-US" sz="2400" spc="-1" strike="noStrike">
              <a:solidFill>
                <a:srgbClr val="000000"/>
              </a:solidFill>
              <a:latin typeface="Chinaca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hinacat"/>
              </a:rPr>
              <a:t>Questo Pane e Vino, </a:t>
            </a:r>
            <a:endParaRPr b="0" lang="en-US" sz="2400" spc="-1" strike="noStrike">
              <a:solidFill>
                <a:srgbClr val="000000"/>
              </a:solidFill>
              <a:latin typeface="Chinaca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hinacat"/>
              </a:rPr>
              <a:t>era diventato  </a:t>
            </a:r>
            <a:endParaRPr b="0" lang="en-US" sz="2400" spc="-1" strike="noStrike">
              <a:solidFill>
                <a:srgbClr val="000000"/>
              </a:solidFill>
              <a:latin typeface="Chinaca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hinacat"/>
              </a:rPr>
              <a:t>il Corpo e il  Sangue di Gesú.</a:t>
            </a:r>
            <a:endParaRPr b="0" lang="en-US" sz="3200" spc="-1" strike="noStrike">
              <a:solidFill>
                <a:srgbClr val="000000"/>
              </a:solidFill>
              <a:latin typeface="Chinaca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562720" y="233280"/>
            <a:ext cx="3368520" cy="6438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72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57360" y="368280"/>
            <a:ext cx="2879640" cy="825480"/>
          </a:xfrm>
          <a:prstGeom prst="rect">
            <a:avLst/>
          </a:prstGeom>
          <a:gradFill rotWithShape="0">
            <a:gsLst>
              <a:gs pos="0">
                <a:srgbClr val="fedd9d">
                  <a:alpha val="50196"/>
                </a:srgbClr>
              </a:gs>
              <a:gs pos="50000">
                <a:srgbClr val="ffcc66">
                  <a:alpha val="50196"/>
                </a:srgbClr>
              </a:gs>
              <a:gs pos="100000">
                <a:srgbClr val="fedd9d">
                  <a:alpha val="5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hinacat"/>
              </a:rPr>
              <a:t>I discepoli di Gesú, di oggi ... </a:t>
            </a:r>
            <a:endParaRPr b="0" lang="en-US" sz="24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52" name=""/>
          <p:cNvSpPr/>
          <p:nvPr/>
        </p:nvSpPr>
        <p:spPr>
          <a:xfrm>
            <a:off x="2457360" y="1403280"/>
            <a:ext cx="2881440" cy="1557000"/>
          </a:xfrm>
          <a:prstGeom prst="rect">
            <a:avLst/>
          </a:prstGeom>
          <a:gradFill rotWithShape="0">
            <a:gsLst>
              <a:gs pos="0">
                <a:srgbClr val="fedd9d">
                  <a:alpha val="50196"/>
                </a:srgbClr>
              </a:gs>
              <a:gs pos="50000">
                <a:srgbClr val="ffcc66">
                  <a:alpha val="50196"/>
                </a:srgbClr>
              </a:gs>
              <a:gs pos="100000">
                <a:srgbClr val="fedd9d">
                  <a:alpha val="5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hinacat"/>
              </a:rPr>
              <a:t>... si riuniscono nella parrocchia per celebrare questa Cena.</a:t>
            </a:r>
            <a:endParaRPr b="0" lang="en-US" sz="24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53" name=""/>
          <p:cNvSpPr/>
          <p:nvPr/>
        </p:nvSpPr>
        <p:spPr>
          <a:xfrm>
            <a:off x="476280" y="6083280"/>
            <a:ext cx="8191440" cy="459720"/>
          </a:xfrm>
          <a:prstGeom prst="rect">
            <a:avLst/>
          </a:prstGeom>
          <a:gradFill rotWithShape="0">
            <a:gsLst>
              <a:gs pos="0">
                <a:srgbClr val="fedd9d">
                  <a:alpha val="50196"/>
                </a:srgbClr>
              </a:gs>
              <a:gs pos="50000">
                <a:srgbClr val="ffcc66">
                  <a:alpha val="50196"/>
                </a:srgbClr>
              </a:gs>
              <a:gs pos="100000">
                <a:srgbClr val="fedd9d">
                  <a:alpha val="5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hinacat"/>
              </a:rPr>
              <a:t>... che chiamiamo MESSA o  EUCARESTIA:</a:t>
            </a:r>
            <a:endParaRPr b="0" lang="en-US" sz="2400" spc="-1" strike="noStrike">
              <a:solidFill>
                <a:srgbClr val="000000"/>
              </a:solidFill>
              <a:latin typeface="Chinaca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6280" y="279360"/>
            <a:ext cx="1749600" cy="5535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697360" y="368280"/>
            <a:ext cx="3151440" cy="549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160"/>
                            </p:stCondLst>
                            <p:childTnLst>
                              <p:par>
                                <p:cTn id="1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76280" y="414360"/>
            <a:ext cx="4005360" cy="1191240"/>
          </a:xfrm>
          <a:prstGeom prst="rect">
            <a:avLst/>
          </a:prstGeom>
          <a:gradFill rotWithShape="0">
            <a:gsLst>
              <a:gs pos="0">
                <a:srgbClr val="fee4ca">
                  <a:alpha val="50196"/>
                </a:srgbClr>
              </a:gs>
              <a:gs pos="50000">
                <a:srgbClr val="ffcc99">
                  <a:alpha val="50196"/>
                </a:srgbClr>
              </a:gs>
              <a:gs pos="100000">
                <a:srgbClr val="fee4ca">
                  <a:alpha val="5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hinacat"/>
              </a:rPr>
              <a:t>Riceviamo il corpo e il sangue di Gesú, nella COMUNIONE.</a:t>
            </a:r>
            <a:endParaRPr b="0" lang="en-US" sz="2400" spc="-1" strike="noStrike">
              <a:solidFill>
                <a:srgbClr val="000000"/>
              </a:solidFill>
              <a:latin typeface="Chinacat"/>
            </a:endParaRPr>
          </a:p>
        </p:txBody>
      </p:sp>
      <p:sp>
        <p:nvSpPr>
          <p:cNvPr id="57" name=""/>
          <p:cNvSpPr/>
          <p:nvPr/>
        </p:nvSpPr>
        <p:spPr>
          <a:xfrm>
            <a:off x="476280" y="2104920"/>
            <a:ext cx="3960720" cy="2654280"/>
          </a:xfrm>
          <a:prstGeom prst="rect">
            <a:avLst/>
          </a:prstGeom>
          <a:gradFill rotWithShape="0">
            <a:gsLst>
              <a:gs pos="0">
                <a:srgbClr val="fee4ca">
                  <a:alpha val="50196"/>
                </a:srgbClr>
              </a:gs>
              <a:gs pos="50000">
                <a:srgbClr val="ffcc99">
                  <a:alpha val="50196"/>
                </a:srgbClr>
              </a:gs>
              <a:gs pos="100000">
                <a:srgbClr val="fee4ca">
                  <a:alpha val="5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hinacat"/>
              </a:rPr>
              <a:t>Mangiare</a:t>
            </a:r>
            <a:r>
              <a:rPr b="1" lang="ca-ES" sz="2400" spc="-1" strike="noStrike">
                <a:solidFill>
                  <a:srgbClr val="000000"/>
                </a:solidFill>
                <a:latin typeface="Chinacat"/>
              </a:rPr>
              <a:t> Gesú non è fare una cosa qualsiasi, perché sigifica entrare in una vita distinta, che ti fa VEDERE E VIVERE le cose come le vede e le vive Gesú:</a:t>
            </a:r>
            <a:endParaRPr b="0" lang="en-US" sz="2400" spc="-1" strike="noStrike">
              <a:solidFill>
                <a:srgbClr val="000000"/>
              </a:solidFill>
              <a:latin typeface="Chinacat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67360" y="279360"/>
            <a:ext cx="3708360" cy="629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92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92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5:21:11Z</dcterms:created>
  <dc:creator/>
  <dc:description/>
  <dc:language>en-US</dc:language>
  <cp:lastModifiedBy/>
  <dcterms:modified xsi:type="dcterms:W3CDTF">2007-04-27T04:46:09Z</dcterms:modified>
  <cp:revision>49</cp:revision>
  <dc:subject/>
  <dc:title>ANEM AL SOPAR DEL SENYOR  - L’EUCARISTIA O MISSA - </dc:title>
</cp:coreProperties>
</file>